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B1BC-EA0F-4AE8-9C50-C7000960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2CE-373B-4D04-BC01-16861B05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3F7A-7E38-4724-8936-CFCF205F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4707-03B9-47C6-B632-ACC6CB22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6381-895D-4B05-B35F-5A23C570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9CB2-D57F-46EA-BAAB-9B781221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4B7B-5219-4319-9827-BBF24EC4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89A6-5BBA-45CA-BC04-EF31AFE8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4A67-0B98-4097-A6BF-CD66B3F3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7F57-F748-4EBC-ABFE-54C6B89B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B761-7E37-43F4-9607-7196B17D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FE4-A287-4881-A953-8B4DC171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145B-443D-4E05-BD5B-94E2E4B8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7994-920A-41D1-B94F-B99E6C29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0371-F884-4171-86D8-E51979D3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AA21-5444-4599-9575-38A96A31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DA41-5275-41AF-8E98-59EB0C26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61AE-8EAB-4612-9B49-DC3A2237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65BA-72DC-4527-91FD-6CA6ACC0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C6E3-D907-4688-BBFD-F78D708A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0195-7CE0-4F89-8DF7-C837CED6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E878-6EEF-4B8A-B096-D5DAE5AA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90CF-D99E-4A02-B770-D4435925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FA2-D86E-48AF-B004-BDE3EE41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C9E3-A29C-48DA-B99E-DEF82EBEF460}" type="slidenum">
              <a:rPr b="0" lang="fi-F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AFF3-E7B4-4EE1-9E7B-2AE200DFE679}" type="slidenum">
              <a:rPr b="0" lang="fi-F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tsikko 1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5104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euda Tuusul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Irma Kähkön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Marraskuu 2010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tsikk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Ohjausmateriaalin läpikäyminen ohjaajien kanss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eudalla ja Päksillä yllättävän vähän yhteistyötä keskenään – vein tietoa Keudasta ja opetussuunnitelmist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Lähihoitajia vähän töissä esh:ssa Lahdess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Vastustus lähihoitajien työskentelyyn esh:ssa ?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tsikk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Diagnosoinnin apuna erilaiset lomakkeet oireiden arviointiin – haastattelin niiden avulla potilait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Atk-järjestelmän päivittäistä käyttöä (raportointi, hoitosuunnitelmat…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Raportoinnin rakenteellisuus haastava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Marraskuun aikana sairaalassa otettiin käyttöön uusi hoitoisuusluokitusjärjestelmä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6" name="Picture 2" descr="C:\Program Files\Microsoft Office\MEDIA\CAGCAT10\j0292982.wmf"/>
          <p:cNvPicPr/>
          <p:nvPr/>
        </p:nvPicPr>
        <p:blipFill>
          <a:blip r:embed="rId2"/>
          <a:stretch/>
        </p:blipFill>
        <p:spPr>
          <a:xfrm>
            <a:off x="7300800" y="4797360"/>
            <a:ext cx="18432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tsikk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eräsin jakson aikana materiaalia, jota olen käyttänyt jo kevään opetuksessani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Tietoa koulutuksista, ohjauksesta, esimerkkitapauksia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Pidin mp-opiskelijoille tunnin, jossa kerroin topo-jaksoni kokemuksista ja heillä oli mahdollisuus kysellä minulta topo-jaksost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tsikk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Vastaanotto topo-paikassani loistava ; palaveri aloittaessani, jakson aikana ja lopuss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Molemmilla osastoilla minulle nimetty ohjaaja, joiden kanssa tein aluksi samoja työvuoroj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Jakso upea ja opettava kokemus, vaikka alussa rankka ja väsyttävä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Oma rooli työyhteisössä ?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Asiat, jotka muuttuneet opettajana oloni aikana psyk hoitotyössä 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Potilaiden oikeudet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Perhe- ja verkostotyö lisääntyny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Päihdepsykoosien kasvu ja haastavu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Atk:lle kirjaaminen ja luokitukset vievät työaikaa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SUOSITTEL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LÄMPIMÄSTI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AIKILLE OPETTA-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JILLE !!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Picture 2" descr="C:\Program Files\Microsoft Office\MEDIA\CAGCAT10\j0299125.wmf"/>
          <p:cNvPicPr/>
          <p:nvPr/>
        </p:nvPicPr>
        <p:blipFill>
          <a:blip r:embed="rId1"/>
          <a:stretch/>
        </p:blipFill>
        <p:spPr>
          <a:xfrm>
            <a:off x="3995640" y="4581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tsikk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Mikä työpaikka hyödyntäisi eniten ammatillisesti itseäni opettajan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Missä paikassa toteutuu samanaikaisesti mielenterveys- päihde- ja kriisityö 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Auroran sairaalassa ja Kellokosken sairaalassa lähihoitajaopiskelijoita on jo syventävällä työssä oppimisen jaksoill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tsikk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Päijät-Hämeen sosiaali- ja terveydenhuollon kuntayhtymä  - psykiatrian tulosalue – sairaalapsykiatri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Päijät-Hämeen keskussairaala, Keskussairaalankatu 7, Lahti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Psykiatrisen vuodeosastot 5 ja 9 vastaavat osaltaan sairaanhoitopiirin alueelta nousevaan akuuttiin ja lyhytkestoiseen psykiatrisen hoidon tarpeesee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Picture 2" descr="C:\Program Files\Microsoft Office\MEDIA\CAGCAT10\j0235319.wmf"/>
          <p:cNvPicPr/>
          <p:nvPr/>
        </p:nvPicPr>
        <p:blipFill>
          <a:blip r:embed="rId2"/>
          <a:stretch/>
        </p:blipFill>
        <p:spPr>
          <a:xfrm>
            <a:off x="7359480" y="0"/>
            <a:ext cx="1784520" cy="1822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Program Files\Microsoft Office\MEDIA\CAGCAT10\j0235319.wmf"/>
          <p:cNvPicPr/>
          <p:nvPr/>
        </p:nvPicPr>
        <p:blipFill>
          <a:blip r:embed="rId3"/>
          <a:stretch/>
        </p:blipFill>
        <p:spPr>
          <a:xfrm>
            <a:off x="7164360" y="2133720"/>
            <a:ext cx="17845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tsikk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Suljettu psykoosihoito-osasto, jossa toteutetaan psykoosipotilaiden tutkimusta ja hoito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Hoitotyön näkökulma varhaiskuntouttav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16 sairaansija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Arvioitu hoitojakson pituus noin 1-2 kuukautt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Painoalueena nuorten ensipsykoosien tutkiminen ja hoito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tsikk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Aikuispsykiatrian suljettu osast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Vastaanotto ympäri vuorokaude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Tavoitteena kokonaisvaltainen tilanteen kartoitus, akuuttivaiheen hoito ja tarkoituksenmukaisen jatkohoidon järjestämin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16 sairaansija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Akuuttipotilaiden laadukas vastaanottaminen, akuutin psykoosipotilaan /vaikeahoitoisen potilaan hoito, päihdepsykoosien ja vaikeiden vieroitusoireiden hoito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tsikk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Perehtyminen tämän päivän psykiatrisen hoidon käytänteisiin ja toteuttaa hoitotyötä moniammatillisen tiimin jäsenenä  (1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artoittaa oppilaitoksen ja ohjaajien roolia lähihoitajaopiskelijoiden top-jaksoilla (2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Saada uutta tietoa atk-ohjelmista + arviointimittareista + lomakkeista (3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tsikko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Yhteistyön lisääminen (2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Viedä tietoa uudesta opetussuunnitelmasta ja näyttötutkinnoista (2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Tarjota opiskelijoille laadukasta, päivitettyä opetusta ja kehittää opetuksen sisältöä ja materiaalia (4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tsikk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Kohtasin osastoilla eri ikäisiä potilaita, joilla psykooseja, kaksisuuntaista mielialahäiriötä, masennusta ja päihderiippuvuutta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Potilailla erilaisia elämänkriisejä, jotka johtaneet itsemurhayritykseen ja viiltelyy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Toteutin jakson aikana potilaiden sisään ja uloskirjoittamista sairaalaa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Yhteistyötä eri mielenterveys- ja päihdepaikkojen ja sosiaalihuollon kanss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Book Antiqua"/>
              </a:rPr>
              <a:t>Jatkopaika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Book Antiqua"/>
              </a:rPr>
              <a:t>Verkostopalaverit  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Book Antiqua"/>
              </a:rPr>
              <a:t>Lastensuojelu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Hoitotyön toteuttamista hoitoryhmän jäsenenä – kaksi erilaista moniammatillista tiimiä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Hoitoneuvottelut potilaiden läheisten ja perheiden kanssa  (perhetyö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Kotikäyntien tekemistä nuorten potilaiden kanss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Osastolla 5 päivittäin tarkkailutapaamisia (pidättävä tai vapauttava päätös )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Lääke- ja ect-hoidon seurantaa, arviontia ja osallistumist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Somaattisen puolen hoitoa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Psykoedukaatiota (ohjausta, neuvontaa, tietoa…)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Käytännöt eristämistä ja rajoittamisesta , vastentahtoinen hoito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9:00:30Z</dcterms:created>
  <dc:creator>TiVi-Tuki</dc:creator>
  <dc:description/>
  <dc:language>en-US</dc:language>
  <cp:lastModifiedBy>TiVi-Tuki</cp:lastModifiedBy>
  <dcterms:modified xsi:type="dcterms:W3CDTF">2011-01-26T10:29:21Z</dcterms:modified>
  <cp:revision>12</cp:revision>
  <dc:subject/>
  <dc:title>Topo-jakson esittely</dc:title>
</cp:coreProperties>
</file>